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9.jpeg" ContentType="image/jpeg"/>
  <Override PartName="/ppt/media/image1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B84-D947-49E3-A8F8-CB30DFA1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FF1-84AE-4C3F-AA00-5CEEBCC4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EBC4F-0896-455D-A8F8-04E1E7EE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80A66-BC76-4584-8146-78BCB7E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1D17C-77AF-4C68-90F8-B2E5BFC1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9EB1D-35E8-4DB1-BD6C-633462B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B9C35-777B-4147-B6A7-A06FBA2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FE912-E8E6-497C-9AC2-DA62774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07454-3DC9-49CD-B64A-1C267D99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608BF-E2DB-4477-9F1C-D987DF43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639AF-FF8C-44BE-B79A-0A24A64D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1B3-EC30-431A-8E14-30C038FC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EE7-40A5-4B3B-819E-8B045669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AB57-9B3C-4E16-93F8-91AB4B78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3B0D-3D27-410B-913A-732D8147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7B19-EC4D-4E5D-B348-2A6E0046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3F9B-E229-4588-A7EC-7CE10AEB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3FB9-88B9-4E60-8A44-F5764376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01ED-D0D0-406B-9184-43403316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213B-5973-4D74-934E-4D4BE531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589-1ABC-42D7-8650-21297FC8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1C31-DB76-4675-AF96-DE244FB4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DD36-2280-44C0-9A76-6097FF79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0288-D31C-4010-8230-7FFAF431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C8B1-990A-4FA7-AB64-8C52A9C3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FBDF-4475-43DA-9B1C-92D7A87D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F3B2A-0F77-49F7-AD9F-26E9D495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042F8-3D00-47E9-8E4D-25B5E821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C07E3-A637-48A9-ABBC-9CDC335C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F286ED-9C72-42BC-A70A-3691B42B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55A35-6C5E-4FD9-A644-93233C6F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FCC-AABA-4812-BB21-586D90DF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1CD33-8566-4AE2-895F-B9154162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EF6C5-D251-41AD-A0DD-9ED8B3D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E9E52-607C-4ACC-B25F-4E0466AE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8F499-6BAE-4ED0-A299-347A184A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361AE-F0F8-4042-889C-4904780C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F86B0-5FE0-4DC0-B8E3-4AEE355D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9764F-5654-4236-AE5E-10F90CB0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8AF6-4FC7-40A4-B109-72A36C63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11B2-036C-4BE5-91FB-22CBB829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C4F4C-D7DD-4410-AB59-075BF54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1AF-B5F7-4B85-9E53-42C5D133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5686C-76C5-4671-808F-0403C6B2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16322-E1BC-4306-8B9D-DBE7EA86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7A38-BCB0-4A4D-AF77-9E7EB889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ABBE6-7BCC-4029-9E37-EB6F010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48B4-3762-4ADD-975D-047B9127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16D0D-5DAC-4D64-8FC6-AC094BE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6B69-5A11-49E8-9827-EEAC7C0A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8FB8-F2FB-496A-AA2E-A4372FFD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D7C2F-A4E6-4620-B0D2-67A0176B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A927F-D479-4335-82BC-3908D84B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99F4-78CC-40B8-A13C-84B3FAC9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2D431-6259-46B3-A02D-593101F2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9259C-1F7D-41E4-9F7D-140A01BB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E5E79-BF24-4589-9B83-3D848ABC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3027F-36ED-40E5-8DA7-837C3089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73BC03-6E4C-47F9-B68F-DF5880DC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C5BABB-E874-4037-911E-2B2331E5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9B987-DBB2-49F8-A1CE-0E9E1CDD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FC02D-315F-49E8-8310-5F070466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30865-851D-4093-A88D-7A34CC56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A3D3C-F02D-4F2F-8ED7-E9DA1775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ADB-65C8-4569-A605-CC0D197F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A24A2-D126-4D4E-9B77-31282518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78BD7-A31D-4509-9BC1-00582249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27A23-63A7-4FF2-BAED-6B1EE735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ED6CA-E1BB-4E40-8B77-AA79A998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69505-B1C5-49A7-8DED-107E62BA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6D537-30A1-4D07-AB7B-9E01F3F3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681F3-F686-42AA-A463-43501188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EE5EE8-9924-4064-B8D8-5604FF5B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53320-8424-425E-8C8E-E499C74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8A175-7D38-4184-91FD-0168213B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5DC-1464-43A8-8B2F-D0E3D44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C1A3D8-2525-40F2-AD82-8ED1929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ECBC9-3B50-4F9F-999A-A6E49D6C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B2B0F-2BD2-46C4-87E5-BBEA11C7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96584-B766-4EE9-B661-0BEC5494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4CAEE-A78C-414D-8293-B07169C9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9584D-1FB0-40D1-8E2B-2DD6EC7F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A9BA06-C523-4D5D-98D8-88BCF3D4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DEC51-F9D4-4AF7-B7D0-2E61428A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94030-07FB-4166-9D20-F53D381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F9F6E-6E25-487D-8000-F75142CE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77E-1789-4031-93CC-628E9070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25D05-FEEB-43DB-A8F3-B89A793B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C5502-C20B-4C00-8C4D-47818916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CA61E5-DE80-4C15-98B7-C71FB070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AC37D8-36F9-42C1-8905-7265082F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A7143E-8848-48FA-97B1-2AB8E2B1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D5C6E-D332-4873-B022-E16EE50B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3E46-B87D-4683-AED4-49AC3E0F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2D19E-9DF6-441C-8F1A-876EE524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F067C-E350-4E13-8374-868E9ACE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C8B88-6352-4531-88CA-7DE012B4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79B-6564-43D4-9810-D69A4BD6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447D7-13F8-4CD9-BA12-A226414C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A23A-2225-41C8-B6BE-520B308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E27EA-6850-42D4-8B47-2B03BD2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6A93C-410A-48BD-8C29-ECB006CA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8E9DD-8CA8-47A3-A675-B05956D1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92A63-0193-4969-A5BC-EAD4118B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809C8-916E-4603-A771-9DB78AF9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02964-D739-4358-ACF5-2128B8A7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7CEDF-35C4-4896-AC33-FEE2D68B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0EF71-9394-4F18-9999-11B00F01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FEF4-9135-4538-A176-4B185E33D955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CC3B-7091-42B2-A2DA-AA9326D825BA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ttore 1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7098-D478-4F65-8674-0F08D35B7610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9298-8891-4013-AD07-62D7F87471AE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C535-4B37-4FD0-A4E4-9902CEED0F66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3FCF-D052-489A-8E7A-DBFF7B3C9210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tango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tango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nettore 1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nettore 1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nettore 1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ttore 1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nettore 1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tango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nettore 1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28E8-1587-4CBB-8ED4-2242E0A45773}" type="datetime">
              <a:rPr b="0" lang="en-AU" sz="1200" spc="-1" strike="noStrike">
                <a:solidFill>
                  <a:srgbClr val="fff39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39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8D2A-6516-4744-B48F-8790EB8ADE56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8AA2-C17F-4B6B-8738-02A41E645B42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ACC9-FAEB-42C0-B2C8-A8ABF549C463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nettore 1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nettore 1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nettore 1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tango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nettore 1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ABAB-B5FF-4EE7-A95E-6110EC3485BD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255-993C-4153-81C2-74F1E771A00C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ttore 1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nettore 1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tango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nettore 1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nettore 1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nettore 1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75D3-2218-41A9-B6F1-9CAC3E46D23C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5E96-CBC8-4396-B9EF-D807A4EDD9C3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6593-FB55-4F8B-A532-7517F165EE88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35FA-409F-452D-81C8-3929DBD9A5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Connettore 1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onnettore 1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onnettore 1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ttango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nettore 1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FF37-A41E-4683-924F-574C5CF2AC9C}" type="datetime">
              <a:rPr b="0" lang="en-AU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53AD-87BA-4D34-AA84-A52CCEF706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ASSORBIMENTO ATOM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75f6d"/>
                </a:solidFill>
                <a:latin typeface="Century Schoolbook"/>
              </a:rPr>
              <a:t>CLASSE 3 AP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Segnaposto piè di pagina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75f6d"/>
                </a:solidFill>
                <a:latin typeface="Century Schoolbook"/>
              </a:rPr>
              <a:t>ASSORBIMENTO ATOMICO A FIAMMA (FAAS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Segnaposto piè di pagina 1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14520" y="5877000"/>
            <a:ext cx="79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combustibile (acetilene) + comburente (aria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fia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2"/>
          <p:cNvGrpSpPr/>
          <p:nvPr/>
        </p:nvGrpSpPr>
        <p:grpSpPr>
          <a:xfrm>
            <a:off x="770040" y="1484280"/>
            <a:ext cx="7603560" cy="3884760"/>
            <a:chOff x="770040" y="1484280"/>
            <a:chExt cx="7603560" cy="3884760"/>
          </a:xfrm>
        </p:grpSpPr>
        <p:pic>
          <p:nvPicPr>
            <p:cNvPr id="484" name="Picture 4" descr="FAAS"/>
            <p:cNvPicPr/>
            <p:nvPr/>
          </p:nvPicPr>
          <p:blipFill>
            <a:blip r:embed="rId1"/>
            <a:stretch/>
          </p:blipFill>
          <p:spPr>
            <a:xfrm>
              <a:off x="3520800" y="1484280"/>
              <a:ext cx="4852800" cy="388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5"/>
            <p:cNvSpPr/>
            <p:nvPr/>
          </p:nvSpPr>
          <p:spPr>
            <a:xfrm>
              <a:off x="1128600" y="3387960"/>
              <a:ext cx="189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entury Schoolbook"/>
                </a:rPr>
                <a:t>regolazione dei g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6"/>
            <p:cNvSpPr/>
            <p:nvPr/>
          </p:nvSpPr>
          <p:spPr>
            <a:xfrm flipV="1">
              <a:off x="3101760" y="3705840"/>
              <a:ext cx="1399680" cy="126000"/>
            </a:xfrm>
            <a:prstGeom prst="line">
              <a:avLst/>
            </a:prstGeom>
            <a:ln w="25560">
              <a:solidFill>
                <a:srgbClr val="fff39d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7"/>
            <p:cNvSpPr/>
            <p:nvPr/>
          </p:nvSpPr>
          <p:spPr>
            <a:xfrm>
              <a:off x="1198440" y="1940040"/>
              <a:ext cx="196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entury Schoolbook"/>
                </a:rPr>
                <a:t>comparto della fiam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8"/>
            <p:cNvSpPr/>
            <p:nvPr/>
          </p:nvSpPr>
          <p:spPr>
            <a:xfrm>
              <a:off x="3304440" y="2448000"/>
              <a:ext cx="1981800" cy="38160"/>
            </a:xfrm>
            <a:prstGeom prst="line">
              <a:avLst/>
            </a:prstGeom>
            <a:ln w="25560">
              <a:solidFill>
                <a:srgbClr val="fff39d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770040" y="4546800"/>
              <a:ext cx="23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entury Schoolbook"/>
                </a:rPr>
                <a:t>introduzione del camp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0"/>
            <p:cNvSpPr/>
            <p:nvPr/>
          </p:nvSpPr>
          <p:spPr>
            <a:xfrm flipV="1">
              <a:off x="3161520" y="4572000"/>
              <a:ext cx="2786760" cy="419040"/>
            </a:xfrm>
            <a:prstGeom prst="line">
              <a:avLst/>
            </a:prstGeom>
            <a:ln w="25560">
              <a:solidFill>
                <a:srgbClr val="fff39d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4516560" y="4076640"/>
            <a:ext cx="3727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aspirazione in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segnale dipendente dalla concentrazione e non dalla 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4284720" y="2421000"/>
            <a:ext cx="21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cammino ot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burner"/>
          <p:cNvPicPr/>
          <p:nvPr/>
        </p:nvPicPr>
        <p:blipFill>
          <a:blip r:embed="rId1"/>
          <a:stretch/>
        </p:blipFill>
        <p:spPr>
          <a:xfrm>
            <a:off x="611280" y="1484280"/>
            <a:ext cx="3208320" cy="4549680"/>
          </a:xfrm>
          <a:prstGeom prst="rect">
            <a:avLst/>
          </a:prstGeom>
          <a:ln w="0">
            <a:noFill/>
          </a:ln>
        </p:spPr>
      </p:pic>
      <p:sp>
        <p:nvSpPr>
          <p:cNvPr id="494" name="Line 5"/>
          <p:cNvSpPr/>
          <p:nvPr/>
        </p:nvSpPr>
        <p:spPr>
          <a:xfrm flipH="1">
            <a:off x="1386000" y="3236760"/>
            <a:ext cx="1898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3072960" y="2779560"/>
            <a:ext cx="1125720" cy="381240"/>
          </a:xfrm>
          <a:prstGeom prst="line">
            <a:avLst/>
          </a:prstGeom>
          <a:ln w="25560">
            <a:solidFill>
              <a:srgbClr val="fff39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H="1">
            <a:off x="2949120" y="4608360"/>
            <a:ext cx="1406520" cy="533520"/>
          </a:xfrm>
          <a:prstGeom prst="line">
            <a:avLst/>
          </a:prstGeom>
          <a:ln w="25560">
            <a:solidFill>
              <a:srgbClr val="fff39d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75f6d"/>
                </a:solidFill>
                <a:latin typeface="Century Schoolbook"/>
              </a:rPr>
              <a:t>ASSORBIMENTO ATOMICO A FIAMMA (FAAS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Segnaposto piè di pagina 8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FORNETTI DI GRAFI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4520" y="2914560"/>
            <a:ext cx="3813120" cy="14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Il fornetto di grafite ha dimensioni di pochi cm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entury Schoolbook"/>
              </a:rPr>
              <a:t>La tecnica è nota anche come GF-AA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Segnaposto piè di pagina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Fornetto di grafite"/>
          <p:cNvPicPr/>
          <p:nvPr/>
        </p:nvPicPr>
        <p:blipFill>
          <a:blip r:embed="rId1"/>
          <a:stretch/>
        </p:blipFill>
        <p:spPr>
          <a:xfrm>
            <a:off x="4948200" y="1622520"/>
            <a:ext cx="3511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LIMITI DI RIVELABILITÀ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Segnaposto piè di pagina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5534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ARATTERISTICHE DELL’ ASSORBIMENT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2611c"/>
                </a:solidFill>
                <a:latin typeface="Century Schoolbook"/>
              </a:rPr>
              <a:t>Assorbiment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processo in cui il fotone promuove l’eccitazione dell’elettr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plica  transizioni da uno stato “fondamentale” di  energia ad uno “eccitato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+ 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→ M*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involge quantità discrete di energia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foton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 transizione elettron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tinguiamo due tipi di  assorbiment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524"/>
              </a:spcBef>
              <a:buClr>
                <a:srgbClr val="6685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tomic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lnSpc>
                <a:spcPct val="90000"/>
              </a:lnSpc>
              <a:spcBef>
                <a:spcPts val="524"/>
              </a:spcBef>
              <a:buClr>
                <a:srgbClr val="6685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lecolar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Segnaposto piè di pagina 5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OME LA RADIAZIONE INTERAGISCE CON LA MATERIA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2" name="Picture 4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4033800" cy="45244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437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L’atomo è la più piccola parte della materi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’costituito da un nucleo (protoni e neutroni) circondato da elettroni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Segnaposto piè di pagina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RANSIZIONI ELETTRONICHE E FOTONI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Segnaposto piè di pagina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" descr="energyjump"/>
          <p:cNvPicPr/>
          <p:nvPr/>
        </p:nvPicPr>
        <p:blipFill>
          <a:blip r:embed="rId1"/>
          <a:stretch/>
        </p:blipFill>
        <p:spPr>
          <a:xfrm>
            <a:off x="838080" y="2514600"/>
            <a:ext cx="7086600" cy="40878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4"/>
          <p:cNvSpPr/>
          <p:nvPr/>
        </p:nvSpPr>
        <p:spPr>
          <a:xfrm>
            <a:off x="0" y="304920"/>
            <a:ext cx="866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80880" y="990720"/>
            <a:ext cx="839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’energia del fotone è esattamente uguale alla differenza di energia tra lo stato fondamentale e uno degli stati eccitati della particell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304920" y="1405080"/>
            <a:ext cx="3646440" cy="2782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"/>
          <p:cNvPicPr/>
          <p:nvPr/>
        </p:nvPicPr>
        <p:blipFill>
          <a:blip r:embed="rId2"/>
          <a:stretch/>
        </p:blipFill>
        <p:spPr>
          <a:xfrm>
            <a:off x="457200" y="4410000"/>
            <a:ext cx="4038480" cy="1252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76212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iamo l’ idrogeno, l’atomo più semplic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Segnaposto piè di pagina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4343400" y="137160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gni atomo ha un numero limitato di livelli energetici discre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tanto, solo i fotoni di una certa energia  possono interagire con gli  elettroni in un dato ato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SPETTRI ATOMICI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Segnaposto piè di pagina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609480" y="990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gni atomo ha uno specifico set di livelli energetici, e pertanto solo certi fotoni con opportun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ossono interag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elemental lines"/>
          <p:cNvPicPr/>
          <p:nvPr/>
        </p:nvPicPr>
        <p:blipFill>
          <a:blip r:embed="rId1"/>
          <a:stretch/>
        </p:blipFill>
        <p:spPr>
          <a:xfrm>
            <a:off x="609480" y="2228760"/>
            <a:ext cx="76201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PRINCIPIO TEOR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a tecnica consiste nel vaporizzare un campione portandolo allo stato di atomi neutri. Questo si fa in genere immergendo i vapori della soluzione o in sospensioni del campione – in acqua o in solvente organico- in una fiamma, ad es. Acetilene aria. A questo punto la fiamma viene attraversata da una radiazione caratteristica dell’atomo del campione che interessa .La radiazione è emessa da una apposita lampada detta lampada a catodo cavo , specifica per l’elemento in questione . La radiazione lasciando la fiamma avrà perso di intensità perché ci sarà stato un certo assorbimento da parte del campi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Segnaposto piè di pagina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75f6d"/>
                </a:solidFill>
                <a:latin typeface="Century Schoolbook"/>
              </a:rPr>
              <a:t>SPETTROSCOPIA ATOMICA: ASSORBIMENT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14160" y="1268280"/>
            <a:ext cx="791676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l campione è trasformato in atomi con metodi vari di riscalda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il vapore atomico subisce un’interazione con la luce emessa da una sorgente luminosa (righ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a riga viene assorbita solo dagli atomi corrispondenti mediante l’assorbimento di rison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Schoolbook"/>
              </a:rPr>
              <a:t>l’entità di questa interazione fornisce la risposta analit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6685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qualitativa (quali elementi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04760" indent="-182520">
              <a:lnSpc>
                <a:spcPct val="90000"/>
              </a:lnSpc>
              <a:spcBef>
                <a:spcPts val="451"/>
              </a:spcBef>
              <a:buClr>
                <a:srgbClr val="546e9f"/>
              </a:buClr>
              <a:buSzPct val="6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identificazione attraverso le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assorbi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6685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2100" spc="-1" strike="noStrike">
                <a:solidFill>
                  <a:srgbClr val="000000"/>
                </a:solidFill>
                <a:latin typeface="Century Schoolbook"/>
              </a:rPr>
              <a:t>quantitativa (qual è la concentrazion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04760" indent="-182520">
              <a:lnSpc>
                <a:spcPct val="90000"/>
              </a:lnSpc>
              <a:spcBef>
                <a:spcPts val="451"/>
              </a:spcBef>
              <a:buClr>
                <a:srgbClr val="546e9f"/>
              </a:buClr>
              <a:buSzPct val="6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calibrazione con soluzioni a concentrazione no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04760" indent="-182520">
              <a:lnSpc>
                <a:spcPct val="90000"/>
              </a:lnSpc>
              <a:spcBef>
                <a:spcPts val="451"/>
              </a:spcBef>
              <a:buClr>
                <a:srgbClr val="546e9f"/>
              </a:buClr>
              <a:buSzPct val="6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legge di Lambert-Beer (A =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800" spc="-1" strike="noStrike">
                <a:solidFill>
                  <a:srgbClr val="000000"/>
                </a:solidFill>
                <a:latin typeface="Century Schoolbook"/>
              </a:rPr>
              <a:t>bC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Segnaposto piè di pagina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75f6d"/>
                </a:solidFill>
                <a:latin typeface="Century Schoolbook"/>
              </a:rPr>
              <a:t>SPETTROFOTOMETRIA A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Segnaposto piè di pagina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575f6d"/>
                </a:solidFill>
                <a:latin typeface="Constantia"/>
              </a:rPr>
              <a:t>www.smauro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Schema AAS"/>
          <p:cNvPicPr/>
          <p:nvPr/>
        </p:nvPicPr>
        <p:blipFill>
          <a:blip r:embed="rId1"/>
          <a:stretch/>
        </p:blipFill>
        <p:spPr>
          <a:xfrm>
            <a:off x="1631880" y="1989000"/>
            <a:ext cx="588960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8" name="Object 4"/>
          <p:cNvGraphicFramePr/>
          <p:nvPr/>
        </p:nvGraphicFramePr>
        <p:xfrm>
          <a:off x="1042920" y="4719600"/>
          <a:ext cx="7067520" cy="1473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4719600"/>
                    <a:ext cx="706752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9:52:55Z</dcterms:created>
  <dc:creator>Smauro</dc:creator>
  <dc:description/>
  <dc:language>en-US</dc:language>
  <cp:lastModifiedBy>Smauro</cp:lastModifiedBy>
  <dcterms:modified xsi:type="dcterms:W3CDTF">2013-02-17T13:32:03Z</dcterms:modified>
  <cp:revision>10</cp:revision>
  <dc:subject/>
  <dc:title>ASSORBIMENTO ATOMICO</dc:title>
</cp:coreProperties>
</file>